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72B-BBAA-4B22-89E9-D351F1B9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A8F-A1B0-4574-8CA5-632BF8E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443-7426-4622-90D3-9E4E8C52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815-F0D4-4BEA-9434-AEFC1A22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0A7-6162-4483-8C2D-5CA360E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6A5-A3DD-4509-9DFB-FD1DBC3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192-8C98-4FDB-9B95-E1E6E4B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8DE-5C39-4C7F-8215-7C047B0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C94-69D4-4818-AF96-62E9B35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C75-CB60-48A7-8DC0-77BCD4B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221-3409-47B2-8DA9-6458121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6FC-2C97-4BA8-ACC5-710F18CE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D90-CBAD-49CE-A8E9-6CC2D826C1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  <a:cs typeface="????Boutros Rokaa"/>
              </a:rPr>
              <a:t>محبسة العجاي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100080"/>
            <a:ext cx="802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ا مدبحِك شربل يوميّي صلاّ، يوميّي كان يحمل همّ الناس كِلاّ، وبعدو لْهَلَّق معن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نحكي معو ويسمعن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بصلاتو يرفعنا تَ نوصل ل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3640" y="163080"/>
            <a:ext cx="845964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7920000" cy="63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يا شامخه عا تلّي وعينِك عالبشر، يا رَمز التجلّي وربّنا اللي انتصر، رهبانِك قدّسوكيِ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توب النُّور لبّسوكِ،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للعمر كرّسوكيِ طريقنا للسما </a:t>
            </a: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4920" y="20160"/>
            <a:ext cx="8388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7:19:29Z</dcterms:created>
  <dc:creator>Charbel Azar</dc:creator>
  <dc:description/>
  <dc:language>en-US</dc:language>
  <cp:lastModifiedBy>ف</cp:lastModifiedBy>
  <dcterms:modified xsi:type="dcterms:W3CDTF">2007-07-13T16:00:50Z</dcterms:modified>
  <cp:revision>5</cp:revision>
  <dc:subject/>
  <dc:title>Slide 1</dc:title>
</cp:coreProperties>
</file>